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2A4347-C861-4584-B720-367BAD94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47680" indent="-2476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c and biochemical, (ii) transcription, regulation and protein synthesis, and (iii) signal transduction.  Metabolic pathways enumerate the chemical reactions for biological functions such as energy metabolism and fatty acid synthesi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, regulation and protein synthesis pathways enumerate the processes of converting genetic information into gene product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 transduction pathways outline the cellular response to an environmental or regulatory stimulus via a cascade of post-translational modifications such as phosphory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We use BioPAX level 2 and lev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actome and Biocy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upposed to be backward compa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SI- Proteomics Standards Initiative Molecular 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EBF-CDF7-42F3-AC53-5AE1E3F0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97D-3D5B-405E-B5CE-E59BAC73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33A-BC05-463A-BFA6-2CBC107A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EC0-99DE-48B1-923F-A247A0DB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A6AC-EFF5-44B7-8C31-173BD83F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BB83-6631-46EA-908D-F6090D5B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6348-B47F-4066-8180-E788C05F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0904-3584-49A9-8523-43BB1CBA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3316-202B-43A4-80ED-ABCADB22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99C0-BF7B-4A2A-8BF1-1DA89C0C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0FAE-13A5-47E5-85BC-0101FE11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579-0B2D-491D-9EF3-0F541C16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0511-F1AF-47AD-9057-6CEB8695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59EF-8C91-4BEB-A78F-18CA30E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F780-4A0D-494A-9B23-5AECFDC5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F077-7DB4-4052-A574-1D285FCF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549F-AC4C-48C7-8B62-3897DA29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507-E30E-48E2-9557-DD7CE5B2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11F-B7CD-4199-8636-7EB7D2E2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C1F-160C-41DC-B3EF-8CC68E2E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2F2-ED62-446E-9208-917D2E53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E33-1AB9-44C9-81A7-60B0F6F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6AD-6428-493F-B283-B2698676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145-2A23-4AE1-8D63-B0AA1414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0505-07B0-4BBC-9201-12B66047F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862760" y="63360"/>
            <a:ext cx="1094040" cy="1197000"/>
            <a:chOff x="7862760" y="63360"/>
            <a:chExt cx="1094040" cy="1197000"/>
          </a:xfrm>
        </p:grpSpPr>
        <p:sp>
          <p:nvSpPr>
            <p:cNvPr id="7" name=""/>
            <p:cNvSpPr/>
            <p:nvPr/>
          </p:nvSpPr>
          <p:spPr>
            <a:xfrm>
              <a:off x="7862760" y="117360"/>
              <a:ext cx="1094040" cy="114300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80200" y="63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7924680" y="457200"/>
              <a:ext cx="952560" cy="800280"/>
              <a:chOff x="7924680" y="457200"/>
              <a:chExt cx="952560" cy="800280"/>
            </a:xfrm>
          </p:grpSpPr>
          <p:sp>
            <p:nvSpPr>
              <p:cNvPr id="10" name=""/>
              <p:cNvSpPr/>
              <p:nvPr/>
            </p:nvSpPr>
            <p:spPr>
              <a:xfrm flipV="1">
                <a:off x="8153280" y="685080"/>
                <a:ext cx="533520" cy="53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24680" y="457200"/>
                <a:ext cx="343080" cy="34308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229600" y="914400"/>
                <a:ext cx="343080" cy="3430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229600" y="9144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34520" y="457200"/>
                <a:ext cx="342720" cy="343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34520" y="45720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924680" y="4572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" name=""/>
          <p:cNvSpPr/>
          <p:nvPr/>
        </p:nvSpPr>
        <p:spPr>
          <a:xfrm>
            <a:off x="609480" y="1295280"/>
            <a:ext cx="51055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3811-1848-4A04-89E2-53F8844A4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862760" y="63360"/>
            <a:ext cx="1094040" cy="1197000"/>
            <a:chOff x="7862760" y="63360"/>
            <a:chExt cx="1094040" cy="1197000"/>
          </a:xfrm>
        </p:grpSpPr>
        <p:sp>
          <p:nvSpPr>
            <p:cNvPr id="60" name=""/>
            <p:cNvSpPr/>
            <p:nvPr/>
          </p:nvSpPr>
          <p:spPr>
            <a:xfrm>
              <a:off x="7862760" y="117360"/>
              <a:ext cx="1094040" cy="114300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80200" y="63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924680" y="457200"/>
              <a:ext cx="952560" cy="800280"/>
              <a:chOff x="7924680" y="457200"/>
              <a:chExt cx="952560" cy="8002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8153280" y="685080"/>
                <a:ext cx="533520" cy="53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24680" y="457200"/>
                <a:ext cx="343080" cy="34308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29600" y="914400"/>
                <a:ext cx="343080" cy="3430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29600" y="9144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457200"/>
                <a:ext cx="342720" cy="343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534520" y="45720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24680" y="4572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kb.stanford.edu/biopax#datasourcename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kb.stanford.edu/" TargetMode="External"/><Relationship Id="rId2" Type="http://schemas.openxmlformats.org/officeDocument/2006/relationships/hyperlink" Target="mailto:pathwaykb@lists.stanford.edu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thguide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Knowledge Ba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blic Repository for Searching Biological Pathway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51811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ikesh Kotecha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Kyle Bruck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William Lu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and Nigam Shah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artment of Biomedical Informatics, Stanford Universit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ail: pathwaykb@lists.stanford.edu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52680" y="2514600"/>
            <a:ext cx="2133720" cy="2133720"/>
            <a:chOff x="3352680" y="2514600"/>
            <a:chExt cx="2133720" cy="2133720"/>
          </a:xfrm>
        </p:grpSpPr>
        <p:sp>
          <p:nvSpPr>
            <p:cNvPr id="117" name=""/>
            <p:cNvSpPr/>
            <p:nvPr/>
          </p:nvSpPr>
          <p:spPr>
            <a:xfrm>
              <a:off x="3352680" y="2514600"/>
              <a:ext cx="2133720" cy="2133720"/>
            </a:xfrm>
            <a:prstGeom prst="can">
              <a:avLst>
                <a:gd name="adj" fmla="val 25000"/>
              </a:avLst>
            </a:prstGeom>
            <a:blipFill rotWithShape="0">
              <a:blip r:embed="rId1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702600" y="3193560"/>
              <a:ext cx="1456920" cy="1272600"/>
              <a:chOff x="3702600" y="3193560"/>
              <a:chExt cx="1456920" cy="127260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4019040" y="3495960"/>
                <a:ext cx="823680" cy="66636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3702600" y="3193560"/>
                <a:ext cx="570240" cy="545400"/>
                <a:chOff x="3702600" y="3193560"/>
                <a:chExt cx="570240" cy="545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702600" y="3193560"/>
                  <a:ext cx="570240" cy="545400"/>
                </a:xfrm>
                <a:prstGeom prst="ellipse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28960" y="3314880"/>
                  <a:ext cx="316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589280" y="3193560"/>
                <a:ext cx="570240" cy="545400"/>
                <a:chOff x="4589280" y="3193560"/>
                <a:chExt cx="570240" cy="545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589280" y="3193560"/>
                  <a:ext cx="570240" cy="545400"/>
                </a:xfrm>
                <a:prstGeom prst="ellipse">
                  <a:avLst/>
                </a:prstGeom>
                <a:solidFill>
                  <a:srgbClr val="ffff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715640" y="3314880"/>
                  <a:ext cx="316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145760" y="3920760"/>
                <a:ext cx="570240" cy="545400"/>
                <a:chOff x="4145760" y="3920760"/>
                <a:chExt cx="570240" cy="545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145760" y="3920760"/>
                  <a:ext cx="570240" cy="545400"/>
                </a:xfrm>
                <a:prstGeom prst="ellipse">
                  <a:avLst/>
                </a:prstGeom>
                <a:solidFill>
                  <a:srgbClr val="cc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272480" y="4042080"/>
                  <a:ext cx="316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9" name=""/>
          <p:cNvSpPr/>
          <p:nvPr/>
        </p:nvSpPr>
        <p:spPr>
          <a:xfrm>
            <a:off x="4267080" y="495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3720" y="47242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and navigate pathway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-4199" t="65548" r="0" b="0"/>
          <a:stretch/>
        </p:blipFill>
        <p:spPr>
          <a:xfrm>
            <a:off x="-304920" y="1832040"/>
            <a:ext cx="9144000" cy="426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queries enabled via advance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17581" r="13283" b="16012"/>
          <a:stretch/>
        </p:blipFill>
        <p:spPr>
          <a:xfrm>
            <a:off x="380880" y="167652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nder the Hoo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895480" y="1219320"/>
            <a:ext cx="4419720" cy="2590560"/>
            <a:chOff x="2895480" y="1219320"/>
            <a:chExt cx="4419720" cy="2590560"/>
          </a:xfrm>
        </p:grpSpPr>
        <p:sp>
          <p:nvSpPr>
            <p:cNvPr id="167" name=""/>
            <p:cNvSpPr/>
            <p:nvPr/>
          </p:nvSpPr>
          <p:spPr>
            <a:xfrm>
              <a:off x="3733920" y="1219320"/>
              <a:ext cx="3581280" cy="1904760"/>
            </a:xfrm>
            <a:prstGeom prst="cloudCallout">
              <a:avLst>
                <a:gd name="adj1" fmla="val -62898"/>
                <a:gd name="adj2" fmla="val 78000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95480" y="2971800"/>
              <a:ext cx="15242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1600200"/>
            <a:ext cx="2590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Viewer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ka, Cytoscap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276720"/>
            <a:ext cx="297180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Cli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5943600"/>
            <a:ext cx="29718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943600" y="3962520"/>
            <a:ext cx="1093680" cy="1197000"/>
            <a:chOff x="5943600" y="3962520"/>
            <a:chExt cx="1093680" cy="1197000"/>
          </a:xfrm>
        </p:grpSpPr>
        <p:sp>
          <p:nvSpPr>
            <p:cNvPr id="174" name=""/>
            <p:cNvSpPr/>
            <p:nvPr/>
          </p:nvSpPr>
          <p:spPr>
            <a:xfrm>
              <a:off x="5943600" y="4016520"/>
              <a:ext cx="1093680" cy="1143000"/>
            </a:xfrm>
            <a:prstGeom prst="can">
              <a:avLst>
                <a:gd name="adj" fmla="val 25000"/>
              </a:avLst>
            </a:prstGeom>
            <a:blipFill rotWithShape="0">
              <a:blip r:embed="rId1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6104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005520" y="4356360"/>
              <a:ext cx="951840" cy="799560"/>
              <a:chOff x="6005520" y="4356360"/>
              <a:chExt cx="951840" cy="7995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6233760" y="4584600"/>
                <a:ext cx="533160" cy="52992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05520" y="4356360"/>
                <a:ext cx="342720" cy="34272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10080" y="4813200"/>
                <a:ext cx="342720" cy="3427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10080" y="481320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15000" y="4356360"/>
                <a:ext cx="342360" cy="3427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15000" y="4356360"/>
                <a:ext cx="3042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05520" y="4356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04920" y="4648320"/>
            <a:ext cx="1599840" cy="1752480"/>
            <a:chOff x="304920" y="4648320"/>
            <a:chExt cx="1599840" cy="1752480"/>
          </a:xfrm>
        </p:grpSpPr>
        <p:sp>
          <p:nvSpPr>
            <p:cNvPr id="185" name=""/>
            <p:cNvSpPr/>
            <p:nvPr/>
          </p:nvSpPr>
          <p:spPr>
            <a:xfrm>
              <a:off x="304920" y="4952880"/>
              <a:ext cx="12952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880" y="4876920"/>
              <a:ext cx="1295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4800600"/>
              <a:ext cx="12952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480" y="4648320"/>
              <a:ext cx="1295280" cy="1447560"/>
              <a:chOff x="609480" y="4648320"/>
              <a:chExt cx="1295280" cy="1447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09480" y="4648320"/>
                <a:ext cx="129528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5440" y="4724280"/>
                <a:ext cx="1143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ioPA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actom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Cy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3276720" y="5257800"/>
            <a:ext cx="1218960" cy="1059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571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5715000"/>
            <a:ext cx="12952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895480"/>
            <a:ext cx="2210040" cy="11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Path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PAX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95480" y="243828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733920"/>
            <a:ext cx="281952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19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133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1520" y="6324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/>
          <p:nvPr/>
        </p:nvCxnSpPr>
        <p:spPr>
          <a:xfrm>
            <a:off x="7162560" y="4648320"/>
            <a:ext cx="1051560" cy="11876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895480" y="34290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Query: List all reactions in P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447920"/>
            <a:ext cx="853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lect distinct t,x,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HUMAN' as t,x,y  from TABLE(SDO_RDF_MATCH('(?y rdf:type :biochemicalReaction) (?y :NAME ?x)', SDO_RDF_Models('human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O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YEAST' as t,x,y  from TABLE(SDO_RDF_MATCH('(?y rdf:type :biochemicalReaction) (?y :NAME ?x)', SDO_RDF_Models('yeast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O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ECOLI' as t,x,y  from TABLE(SDO_RDF_MATCH('(?y rdf:type :biochemicalReaction) (?y :NAME ?x)', SDO_RDF_Models('ecoli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ORDER BY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752480"/>
            <a:ext cx="77724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ch species has its own RDF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uery across species via UNIO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termine data source via U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ttp://pkb.stanford.edu/biopax#biocyc_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ochemicalReaction124086301HUMANRecruitment of elongation factors to form HIV-1 elongation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ttp://pkb.stanford.edu/biopax#reactome_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ruitment_of_elongation_factors_to_form_HIV_1_elongation_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new species and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d new spec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eate TABLE for storing rdf dat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eate an RDF_MODEL for that spe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sert data as N-Trip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d new data sour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tain BioPAX pathway dat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vert BioPAX OWL files into the triples format using JEN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date all unique identifiers to have a custom URI*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kb.stanford.edu/biopax#datasourcena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grade biopax identifiers from level 1 to level 2*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sert data into tab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B Query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04920" y="1981080"/>
          <a:ext cx="6781680" cy="1506600"/>
        </p:xfrm>
        <a:graphic>
          <a:graphicData uri="http://schemas.openxmlformats.org/drawingml/2006/table">
            <a:tbl>
              <a:tblPr/>
              <a:tblGrid>
                <a:gridCol w="1930320"/>
                <a:gridCol w="1272960"/>
                <a:gridCol w="1151280"/>
                <a:gridCol w="1153800"/>
                <a:gridCol w="127332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path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tri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1,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0" y="1523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ummary of data available in P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824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ample quer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920" y="6375240"/>
            <a:ext cx="62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ueries run on a Dell PowerEdge 2800 w/ 4 GB RAM and Oracle 10.2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880" y="4270320"/>
          <a:ext cx="7391520" cy="1825560"/>
        </p:xfrm>
        <a:graphic>
          <a:graphicData uri="http://schemas.openxmlformats.org/drawingml/2006/table">
            <a:tbl>
              <a:tblPr/>
              <a:tblGrid>
                <a:gridCol w="5827680"/>
                <a:gridCol w="15638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me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arch for pathway titles containing phospholip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nd all proteins with bcl1 in their name or syn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nd all pathways with protein bc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ist all entities to the left or right of hydroxyanthrani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queries are easier with relatio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8288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thwa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18288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thw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04812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6068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43434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tei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04812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590920" y="3733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3733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724280" y="2209680"/>
          <a:ext cx="4267440" cy="1095480"/>
        </p:xfrm>
        <a:graphic>
          <a:graphicData uri="http://schemas.openxmlformats.org/drawingml/2006/table">
            <a:tbl>
              <a:tblPr/>
              <a:tblGrid>
                <a:gridCol w="1422360"/>
                <a:gridCol w="1422720"/>
                <a:gridCol w="142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38862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iven protein E, find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8720" y="344340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lation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600" y="51814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entralized resource for querying pathway information across data sources and spe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monstrates use of BioPAX and RDF for exchange and integration of pathway data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ing data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s RDF graph structures limits query performan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ort requires manipulation of namespa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erying options and methods are based on SPARQL but do not currently support all the features specified in SPARQ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problem with pathways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PAX and data exchan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Knowledge 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rying over multiple data sour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 import and query proc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sion &amp; Next Step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 in PK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differences between data sourc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does the galactose metabolism differ b/w ecocyc and reactom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merg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rge information from the same pathways from different data sour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consistency check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oPAX rules for testing pathway mode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KB Tea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yle Bruc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lliam Lu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gam Sha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niel Rubi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uss Altma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st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Center for Biomedical Ontolog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ding Sour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nford Medical Informatic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Library of Medici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Institute of Healt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. 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kb.stanford.edu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thwaykb@lists.stanford.edu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s convey biological pheno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72400" cy="4243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0840" y="620856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ndaraaj et. al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interpret non-standard pathwa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705720" cy="399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5715000" cy="4124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0" y="6415200"/>
            <a:ext cx="53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ulin signaling pathways – KEGG &amp; BioCa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with pathway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o many sources to investig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&gt;200 databases in the Pathway Resource Lis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thguide.or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thway diagrams are the primary way for consuming inform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standar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orporates a handful of genes and protei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fficult to compute ov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thway” representation is not easy to def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ropriate levels of abstrac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ndard naming systems for molecu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ropriate numbers of compon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AX is an emerging standard for pathwa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3053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292400"/>
            <a:ext cx="7848720" cy="5357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602400" y="64008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biopax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AX allows for creation of a central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PAX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andardized representation of Pathway data in OW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vide method for exchange that promotes interoperability between known data sourc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763120" cy="2065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280" y="4038480"/>
            <a:ext cx="8077320" cy="381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150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We use BioPAX level 2 to integrate Kegg, BioCyc and React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800600" y="4572000"/>
            <a:ext cx="533520" cy="1295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Knowledge Base (PK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7924680" cy="1324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rastructure to integrate pathway information from multiple sources into a central resour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oPAX  and Oracle RDF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s to query pathways in these databa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QL/SPARQ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web interface that allows users and other programs to query and access these pathway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SP/AJAX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pathways across data sources an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-3270" b="33452"/>
          <a:stretch/>
        </p:blipFill>
        <p:spPr>
          <a:xfrm>
            <a:off x="685800" y="1454040"/>
            <a:ext cx="5791320" cy="526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49:18Z</dcterms:created>
  <dc:creator>Nikesh</dc:creator>
  <dc:description/>
  <dc:language>en-US</dc:language>
  <cp:lastModifiedBy>Nikesh</cp:lastModifiedBy>
  <dcterms:modified xsi:type="dcterms:W3CDTF">2006-11-09T19:43:07Z</dcterms:modified>
  <cp:revision>94</cp:revision>
  <dc:subject/>
  <dc:title>Bmi 212 presentation slides v1</dc:title>
</cp:coreProperties>
</file>